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B10ED8-16AB-4716-A3E2-955A662B256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0226C2-F325-4404-A1CE-CF4259A57BB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73684B-3D49-4C1E-A5D0-45F93970BAE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E8C-C4D6-4567-A8EB-B3D5BCC1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D3A-BAD4-4453-A8B8-A30A1AE6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E3B366-2248-43FD-BB02-55A57E8C66B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A4A8E-B7E2-4356-B098-91B2FC07780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CD697-0A6C-4C72-BB2E-B9A9EA28941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0DA783-48F9-46FB-9745-2BBF6D4190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5B901-5EAB-405E-A78C-7C009922879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CC240-A124-41FB-86F0-F7EEF3F0D9B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66EE76-BF3B-4FE4-BABD-716E8E16A6F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C1337E-E824-45D6-A9D7-8EBBCB20E77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38FB1-F037-4393-BCBB-1719C2543F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6BCB1E-D10C-4E7F-994D-A8E9555A1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AE6-8C95-480E-B123-DF331408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3E0B8-190A-4DFF-AE29-88780767ACC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BD1B5-B20D-46E4-88F6-CF39067B62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91EE6-C6BD-425A-8BAB-5BC569DA8D2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94C42-E569-420A-B262-484D65913A4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1C769-FC31-4299-9BD8-257877E1C69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3E98E-4F5A-4582-8CE3-B680852DC6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FB52C-48A6-48A8-ADF0-A8643448BD0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1AE1B-F9CB-42BE-88B7-F19FD265C4D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81B184-52E1-4709-AE53-B934105E1A2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4BDAE-D6E1-4030-B20F-482B0E66F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BA8-3080-438E-9F8C-A942A1AC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482BD-59E5-4EBC-ABC0-28A6919AE6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4373-46D2-4F93-8B45-A328AE2C0B6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17BC-566B-47D9-ABC9-3CDBBEAAE4A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B3F8-FFD7-468F-9063-70C2038B0C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1220-75D9-4906-A5DA-D1C728C9304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9C6C7-6699-475F-BD43-1EAD51E115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632FE-2C07-470F-8D80-EB07140B53F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2257F-98B4-45AF-AB1B-65C93DEBBAF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5B18-F5EB-4A3F-976E-A4A46FA4A4A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A413-24D3-4B8F-BAE1-9BC4D858F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4608-4471-4AB3-BEF2-C62F5266515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C927-8560-4741-83DF-926F6CA012F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A396-5152-48D5-98DD-C2D0E5135DB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DDA3B4-73A9-4109-BB51-C455663082C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69E660-A0B0-466F-866F-B00213322A0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F154BD-963B-4690-8F4E-A79F0CF69D8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A1A8AA-DB79-42E1-8DB1-B248BB2BE86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66658F-C60E-4C64-9F71-FD1B8DFB80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063E41-FD4E-4835-8FED-CA76129745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0521E-D6BE-496A-BD3C-31DD224A9B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1DAB9-E943-49D2-B572-3FA6D171DE0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EA3D22-C73C-4291-A01C-4A8529CE070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583968-908D-417C-BA7B-2EC9C62924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2FB16F-B40A-45D8-8122-B5B1F535274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E26D3C-4969-46D8-89AF-8EAFC1259F7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4F63E-86EA-4A28-BA12-E5EDCF7A14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C2978-59B2-414F-BA93-6CC16AC7CC9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BEDC6-E22E-4758-B45A-15D51AA07EB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156D8-A25A-42D6-9269-2C3BC803187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F4CBB-3724-46D6-AA33-A873FEEA36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FF696-18CF-48BE-898E-C593AADE667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CD284-C450-440C-946D-2AEDF1E4A07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A1746-7A82-4249-983B-5F7F9812365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3DE56-F0EF-4975-82DF-234822715E2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B190F-94C9-4738-929A-C440A014F76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82BDC-FB81-438F-B372-1EA42CDB627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05BD8-36CA-4B27-910C-1F9665F773D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FB1D7-FEF7-4682-AC99-F4F1D29B995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C9A32-14BA-4765-B5CC-6F65228D005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51F86-71F9-4572-8A96-BA04B23FE5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72517-21C8-4DE6-827B-36C49CF6010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7AAE-9BD7-49BE-B64D-778967A5140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DA5C7-4623-46A0-9E6E-0DDCC8FFC6A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4D41C-F757-40D7-9116-1E032550F1A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0C41-24B6-4BC3-8128-48AD9D593D5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E268-AD8D-4A90-9AEE-FF288AD7EC0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591A-A858-4D93-81BF-17143019182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70EBE-8A5D-46B5-B0E8-B505D7DC7E1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32165-BB2E-487C-B558-840500FE1C1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DDF19C-771C-4E8C-B7BD-8569A40743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95CB26-D181-4139-B014-15B5FCFEF57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683017-5443-49F0-80A3-A04BE048E55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563A8E-C517-4275-AA43-91FA4CE6AA7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FCD487-0E9B-44DF-ACCF-51F48C111F0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9AA508-01F5-4B9F-A88B-7BAB938D959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0323D4-24D1-4F21-B496-1BEF95F83B8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1D28AA-38C2-4705-BC93-989A701FF69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C31FAA-8426-4A91-ACCE-E390F3B01F7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827564-0067-4783-AD1E-DD3792A481B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8E3C7D-20B8-4336-B5EF-BED91F55DE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8CF1D-1140-4F1E-9B78-8664F68CF56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DA0EF-1084-4B07-8E54-F12289C71EA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8BFF9-F844-42E2-92FE-2D4BB2FD697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B98BB-C7E7-433F-AEDA-394D3E3E875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BB00B-116F-4E8E-B641-D23E4C0483B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1B9EA-C57C-4A40-9314-9B0AB69ADE8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E30C5-A96C-47C7-87C5-CBC66FE81C3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40251-06F9-4290-8069-8570FC5AA4F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D8068-5DA8-4ACF-BAB6-A30984AD604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A088F-1F6B-4FAF-B6B9-3FD5C45D72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228FF-B53F-4BE8-AEBE-D56EF5185DF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79B58-9304-4A92-B37E-64F254B7606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73206-7685-4FB6-99AE-C4E85A4B641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B88-16D2-451A-A67A-D75072D4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88742-AE93-4A1F-85B4-E162193357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B791A-CEC0-4449-BAA0-9CD22D69B3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E3448-26BC-4291-AD69-A7C6AB2EB3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1E7A9-50F1-43DD-853F-F027B961FB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E8308-0C91-4308-A14F-470598164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99D-9219-4082-9605-DF05F1ED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9D5B7-E18F-4CAD-8AA4-4A3F2B377C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AB9A4-CEA5-4CB3-8699-B00294CB8B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FB50B-570B-4BA5-B6ED-6FDE1C1F39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DEC89-A414-4C52-8C60-BF895E0E06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07068-2422-4101-8BC4-1D8E4DA2B6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C5919-73AC-470E-B570-156F4DD142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7DDE0-4309-464D-9D55-2988AC74FF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7F2D6-2A29-4F05-BFAF-E5DE641E05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A9057-F370-47AE-8892-B4CF24939C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C47E5-DD0E-4721-A241-2644B56E4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B93-8FE8-497C-A80A-7AA99C7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EA84C-A5FF-49B6-BF52-CD8ECAEB47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2F727-78A4-4583-9232-4A2B78D6E5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887C5-5D4A-4DE0-9BDA-C3D167CE8B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B53B6-DEEA-4A38-AEE2-D5B1BF7DF4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8C4A1-4C06-4C05-80DE-6948961027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6AD54-7553-4626-8C07-346E5DBF7D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2FE2B-6F45-4BC6-A3FF-A1AF46594B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FB87E-55F0-4BE8-ADEA-7A3171466D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B863B-AD04-48A7-B7E2-4FFAE315C7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1C64-9FE9-40B5-AE02-26DAB650F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3BD-865A-46FF-A9BE-1952DE39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87F1-110C-4547-9669-5B1AB6E41C3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4232-5967-43CF-91C8-C6B5C70B6E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CC60-7569-409D-A88A-6A972CBB42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DEA5-B16F-4A80-9429-C3A3CE416E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5BFE-95E7-41B6-AB8E-FF1A58ED1F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2631-7918-4BE2-B5F4-081040D898E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82E1-FD20-4BE2-BA4C-A038AE707B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6FEB-3310-42BD-BACE-1C3DD4398D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5ED-5239-4A16-9BD0-2FF80E94CF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137-206F-4569-A333-56B6F6BE3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703-6E83-46A1-983F-E57E98F6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98E6-A090-4C52-A171-DCF742B4FF8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AD9DEE-DAFC-4E10-B225-EC0990B8D93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068B9-19AB-452B-BE77-A2E3FCB5545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3FC5F-732D-4FAF-9086-1152498010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63E63-3F84-4649-A48F-0F6D5CCDA88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EAE30-2341-4BE7-A707-A15E65B438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0431B-D655-4906-86C2-ABB7011EB7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B139A-3260-46AE-B5EA-FD5DBF4A7FC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E6A6A-9657-4923-8EDE-075F07C5B7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7B79D-D9AC-4565-B28E-F185D498A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B29-D3E6-4464-A3E6-FB0C293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5D7D9-304D-4FAD-B1DB-7494A6FFDE3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E122F-9249-402F-A326-2C7E728B640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D45AF-1970-4A1E-89BE-062CCD7607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84501-7274-4EE0-9189-593E66C1084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C73AA-D605-4304-B7B6-E93BFC71A9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40508-B36E-4807-84F3-8227064C9E7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6A8CF-1BBD-4046-9C4B-F66D1723E18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079ED-0823-45D3-BFB7-7B8E845A8DF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6C945-E958-48FB-AA7A-1C1DF10E32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0669E-0DFF-44B1-8BF1-4F88A9A6E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577-9E81-4138-8479-607E823D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2C198-2ACA-4C74-BC4F-49B04DF3BC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65F41-983D-4362-BDDC-CDC011B6EB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39105-1B4F-41AD-9486-53165E98191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50342-BFE8-49F1-9EE5-88726746D0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D1BDD-4134-4289-B702-66DCCCB7D5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85CC-8E1B-4133-A3D7-6BDD8A582FF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9F40-20DE-4765-8F32-8A058618B6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F2CB-ED57-44E5-BA38-F530183EF40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68D1-7760-405B-ABE1-0F7FF2C4FC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DF3C-AFD7-4C57-8D06-529AC3A7F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2B2-6432-432A-8BBD-456E6BC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AD5E-0DF2-41C4-BDD6-ABCFA5AF181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72D2-B1E1-4EC1-8B57-894613BB85C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DFB7E-161C-4942-A433-E5EB547089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6594-6648-4083-9F6A-D0734F61BE5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EFC9-6A3F-48B6-9D3B-4E04E9141FB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39A7-2CA5-4176-82CC-467FAE5CEF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1EED-F709-47B1-ADDD-4061ACF0E03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4A8B99-F72A-4692-B1CB-A02834A7C1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863EC-C4E3-4515-BD49-990CB3C1DD1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5BD94-4D7B-4879-BB02-A861B276F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3333D3-61CD-44BD-B4A7-F0411A919FA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B388A12-EF3D-428D-9B7B-EDC650789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AE5ACF-6337-45A6-B646-2863061670F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1B607C-0993-4E58-9DE6-61136628D7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A45925-620E-4224-BB81-E297C697A35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D8433B-1A7F-46F8-9489-E8168B07B4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DF82AAF-B15B-4911-B9C4-D3A5D25A181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C5C91F-4320-413F-ACFE-37E102F110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2D268F-6446-445F-8186-0003A81AEC3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8FEC03-FDE8-454F-98C4-7CE8AC03891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1A91D9-C496-4261-B14D-2B731AA7565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1004B0-E9F1-4548-BDF1-305850BBA0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910636-A82A-4F8E-B336-A1748949840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C41159A-27A4-48B5-BBC3-E65A99E5D3B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193B04-A868-4632-BA97-43DFA901578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A6322F-BC5B-4C93-B01E-E4882AFEB7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4.gada 5. septemb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E8E7E3-D747-4731-B8FD-4350AA8379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06.09.24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aicinam-pieteikties-tiessaistes-seminaram-par-nordplus-2024-gada-studiju-vizisu-konkursu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4098960" y="2019240"/>
            <a:ext cx="44355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4DB1CB-7A7D-4B37-ABB3-FFD416E9B0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6" descr=""/>
          <p:cNvPicPr/>
          <p:nvPr/>
        </p:nvPicPr>
        <p:blipFill>
          <a:blip r:embed="rId1"/>
          <a:srcRect l="0" t="0" r="4749" b="0"/>
          <a:stretch/>
        </p:blipFill>
        <p:spPr>
          <a:xfrm>
            <a:off x="611280" y="3151080"/>
            <a:ext cx="8172360" cy="253368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1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rcRect l="0" t="6166" r="0" b="0"/>
          <a:stretch/>
        </p:blipFill>
        <p:spPr>
          <a:xfrm>
            <a:off x="3218040" y="1709640"/>
            <a:ext cx="5759280" cy="421488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962950-483C-4495-BE40-AD4721519C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39B69F-ACCD-4913-B638-F35EE7CDA4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E45752-7390-4647-94C4-8C18005243C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789280" y="1290600"/>
            <a:ext cx="604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ir </a:t>
            </a:r>
            <a:r>
              <a:rPr b="1" lang="lv-LV" sz="20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rcRect l="0" t="26520" r="0" b="0"/>
          <a:stretch/>
        </p:blipFill>
        <p:spPr>
          <a:xfrm>
            <a:off x="2490840" y="3040200"/>
            <a:ext cx="5838840" cy="2436840"/>
          </a:xfrm>
          <a:prstGeom prst="rect">
            <a:avLst/>
          </a:prstGeom>
          <a:ln w="0">
            <a:noFill/>
          </a:ln>
        </p:spPr>
      </p:pic>
      <p:sp>
        <p:nvSpPr>
          <p:cNvPr id="753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2230200" y="5498640"/>
            <a:ext cx="3019320" cy="530280"/>
          </a:xfrm>
          <a:prstGeom prst="leftArrow">
            <a:avLst>
              <a:gd name="adj1" fmla="val 50000"/>
              <a:gd name="adj2" fmla="val 5443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1541520" y="1824120"/>
            <a:ext cx="719784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192A6D-8686-43F4-B83B-6340B8304B5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78240" y="426960"/>
            <a:ext cx="61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60510E-CE53-4CC3-B1D1-D639C353BF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06.09.24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3-09-06T10:38:28Z</cp:lastPrinted>
  <dcterms:modified xsi:type="dcterms:W3CDTF">2024-09-05T13:12:12Z</dcterms:modified>
  <cp:revision>179</cp:revision>
  <dc:subject/>
  <dc:title>PowerPoint Presentation</dc:title>
</cp:coreProperties>
</file>